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png" ContentType="image/png"/>
  <Override PartName="/ppt/media/image12.jpeg" ContentType="image/jpeg"/>
  <Override PartName="/ppt/media/image34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4457-2087-4B1A-B1FE-D1A12E722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0B71-8FF9-4448-947D-6A0C9ED5E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9899-B5EF-42C0-A057-5C946CBB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786D-CD27-4CBB-B75B-567270588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D577-6ACA-40C6-B655-98392334D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10DA-FC24-4501-A206-D97883242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CA4C-4DDC-40D9-BB64-70BF56927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F96C-FC2F-4EC1-B68A-1E9B458B2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48D3-6002-44C9-84D6-B8F6B0FC5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4100-3B1A-460A-8E86-DAB30922B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FCE8-6F05-4FE5-9B5B-17A5490F0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43A-3FAC-4901-AE2A-A01D5C402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0ACF-E11E-446E-9A6D-54E1CAC05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BE88-CB71-4A50-90DB-CE301DAC3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F8CF-E256-49D5-BD78-37D8DE3DE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9985-F4E2-4951-9F91-EC168EC9D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A125-4DA3-48C3-AAFD-AD3E9CDE5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7DB5-9957-4E86-A8D0-3277E92AC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DDD3-57AD-4A41-9269-22C202F45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C0F3-3615-48A3-971D-948EF5CAD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30B1-7113-4B3D-B52F-C2F69FCF7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D24A-61C8-4C2A-BAC9-9FBBAD507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6E93-6673-423C-9A98-1E5D69FE6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BB5F-A1E6-4CDC-918A-862D7BFEE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1177-3176-4E00-B3CA-BEB3AFE1B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D139-1897-429D-AB23-732B395E8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8990-F45A-4A41-9BDC-55F25A25B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72A3-4C74-4CFC-A2B9-231C78605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757C-2B8C-4B34-9B10-5FB1E7C57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2911-5D59-4789-B46D-F343BFA24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6ABE-9010-434C-9B15-605A05D6A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903C-8A63-47B4-B094-474EA9C00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8DEA-E57C-439D-A295-505CA0B39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6403-A354-42AA-B412-1D397AF8E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AD0F-66FA-4CD3-A1B7-F233161A2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A0D2-531E-4DD3-8B16-7989BCB05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62FF-F919-4F5B-A4DF-28210F1F6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9E4-0A8C-4CE5-8C78-F08A50BD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CF36-AD4A-44B6-9D1D-54959959D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6EDE-4515-48B1-AE02-CE34C4928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C6B2-3830-4E64-BC39-41359565D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D947-FF6D-4D5F-A57D-090548F4F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5E24-4E80-4C0A-92B4-AF5CBB5B4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7D17-A8BF-4181-97F9-1FB4E261D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24DF-DCE3-4503-B75E-A5ECE22D1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E2AD-8982-43FD-8A20-EDBD0131E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EFD0-E125-4083-9D4C-5EBCDB243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AF74-A5BC-4628-80AC-99268D27C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7879-D163-4987-8BDF-A5FD74AE0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266-2CEA-4E71-BA1D-32A5245D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6EA-C2D2-4D2E-A842-B1B9C51F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447-EF69-43F4-A973-DE89F7E1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C82-EAEB-4C68-BF60-32708A53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17B2-8D8C-4666-B14F-6710CBDB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08D9-34AB-4544-A5BF-23F73768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8CDE-0EFF-4091-AD56-59255222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9B0E-9500-4010-9A1D-BB70B7E3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BC48-0172-4253-BB9A-F03687F9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D9A8-DF33-44DA-9CEA-2EB5E33E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1D63-43DD-4831-9CB7-0C772A94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2F6-A974-4444-A2FC-15B4CF63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AE02-BCC2-4B0F-B702-0A1F3447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0A92-AE5F-41D7-BB64-92E31C49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21B2-D1AF-4975-9EA9-E80D59EA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E1F7-B3A2-40FC-A669-11E3E6A6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22C7-9728-4187-9AD0-45B08A5D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EFD-FD6C-4B5D-95BC-6198071D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347-868C-469A-AA6D-8277C345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3CA-4C8E-4EAB-A35F-2F008E16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A46-8496-40F8-A2FF-AF29C1A3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458-773F-45D5-8C0D-C4D54112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1D0-3757-42F0-929B-07984D63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1C0-701B-4531-BF17-3673DCF5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0594-B224-403F-BB53-948BA6D02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681B-E2A1-4705-939D-363F9D256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bens.anu.edu.au/student.projects/hemp/oldtractor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emphousemaui.com/womensclothing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hemphousemaui.com/mensclothing.html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hemphousemaui.com/footwear.htm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hemphousemaui.com/indexOIL.html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1295280" y="228600"/>
            <a:ext cx="64008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 13:  Forests, Parks and Landscap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nomical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logical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094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at, sugar cane and other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gricultural stra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ricultural was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used for over 2000 y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cycled pap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Down from 10% (1990) to 5% to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(consumer apath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 Not easily marke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recycled paper"/>
          <p:cNvPicPr/>
          <p:nvPr/>
        </p:nvPicPr>
        <p:blipFill>
          <a:blip r:embed="rId1"/>
          <a:stretch/>
        </p:blipFill>
        <p:spPr>
          <a:xfrm>
            <a:off x="6324480" y="4114800"/>
            <a:ext cx="1895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1523880" y="0"/>
            <a:ext cx="5791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rest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2189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wo types of fore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ost logging is on private and U.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rest  service la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f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the greatest amou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good for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st amount of peop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6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440" y="762120"/>
            <a:ext cx="8458200" cy="5943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F.S.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use poli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ists call this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misus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533160"/>
            <a:ext cx="8305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gging strateg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9" descr="6517f04a.gif - 1.43 K"/>
          <p:cNvPicPr/>
          <p:nvPr/>
        </p:nvPicPr>
        <p:blipFill>
          <a:blip r:embed="rId1"/>
          <a:stretch/>
        </p:blipFill>
        <p:spPr>
          <a:xfrm>
            <a:off x="5867280" y="533520"/>
            <a:ext cx="266724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6517f04b.gif - 1.55 K"/>
          <p:cNvPicPr/>
          <p:nvPr/>
        </p:nvPicPr>
        <p:blipFill>
          <a:blip r:embed="rId2"/>
          <a:stretch/>
        </p:blipFill>
        <p:spPr>
          <a:xfrm>
            <a:off x="6019920" y="2362320"/>
            <a:ext cx="2438280" cy="1581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6517f04c"/>
          <p:cNvPicPr/>
          <p:nvPr/>
        </p:nvPicPr>
        <p:blipFill>
          <a:blip r:embed="rId3"/>
          <a:stretch/>
        </p:blipFill>
        <p:spPr>
          <a:xfrm>
            <a:off x="5867280" y="4800600"/>
            <a:ext cx="2768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ffects of clear-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landslides likely on steep slo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396120" y="6400800"/>
            <a:ext cx="27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23920" y="228600"/>
            <a:ext cx="13762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ffects of clearcutting on forest chemical cyc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F13_13"/>
          <p:cNvPicPr/>
          <p:nvPr/>
        </p:nvPicPr>
        <p:blipFill>
          <a:blip r:embed="rId1"/>
          <a:stretch/>
        </p:blipFill>
        <p:spPr>
          <a:xfrm>
            <a:off x="1486080" y="0"/>
            <a:ext cx="76579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mgmt may also include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cribed burning. (clear underbrus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lantation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planted after clear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7" descr="forest"/>
          <p:cNvPicPr/>
          <p:nvPr/>
        </p:nvPicPr>
        <p:blipFill>
          <a:blip r:embed="rId1"/>
          <a:stretch/>
        </p:blipFill>
        <p:spPr>
          <a:xfrm>
            <a:off x="5029200" y="38862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plantation_lif"/>
          <p:cNvPicPr/>
          <p:nvPr/>
        </p:nvPicPr>
        <p:blipFill>
          <a:blip r:embed="rId2"/>
          <a:stretch/>
        </p:blipFill>
        <p:spPr>
          <a:xfrm>
            <a:off x="304920" y="3902040"/>
            <a:ext cx="39621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676520" y="380880"/>
            <a:ext cx="5410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ks and Preser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info. (10% land set asi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 and State Park Servi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s. Forest Servi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_____________________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l. Parks managed by 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ate manages 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rst Natl. Park in US was Yellowstone 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-16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rks and preserves as is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k vs nature reserve/wilder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park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natl. reserve…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n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size and diversity of habi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s  # of speci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maintaine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signing a prese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, more varied habitats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vity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 One of the most crucial environme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rns of our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rect cau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ing world = maj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fu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6095880" y="1523880"/>
            <a:ext cx="990720" cy="1524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7162920" y="6583320"/>
            <a:ext cx="25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90720" y="411120"/>
            <a:ext cx="1600200" cy="96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Park shapes and island biogeograp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F13_14"/>
          <p:cNvPicPr/>
          <p:nvPr/>
        </p:nvPicPr>
        <p:blipFill>
          <a:blip r:embed="rId1"/>
          <a:stretch/>
        </p:blipFill>
        <p:spPr>
          <a:xfrm>
            <a:off x="2666880" y="304920"/>
            <a:ext cx="6019920" cy="6172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276720" y="9144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ood – large area protects many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095880" y="1447920"/>
            <a:ext cx="99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mall areas but over more than one area can be better insur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724280" y="56386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est – wildlife corridors connect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7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ing Wilder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lder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undisturbed, roadless habi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.S. Wilderness Act of 1964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Humans c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visit’, not machines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1" descr="hiking in Adams Ansel Wilderness, John Muir Trail"/>
          <p:cNvPicPr/>
          <p:nvPr/>
        </p:nvPicPr>
        <p:blipFill>
          <a:blip r:embed="rId1"/>
          <a:stretch/>
        </p:blipFill>
        <p:spPr>
          <a:xfrm>
            <a:off x="1219320" y="3048120"/>
            <a:ext cx="70149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 14:  Wildlife, Fisheries and Endangered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Managing wildlife popul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a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Maximum Sustainable Yield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Y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b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Minimum Viable Population 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(endangered spec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c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Optimum Sustainable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d. Carry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 70% global fishes considered overfish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62120" y="18288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d fish harvests are decl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shelf = 95% harv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upwelling, nutrients, alga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armful commercial fishing techniques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1143000" y="30492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 estimated 2 billion hooks are set each year by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ngli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ishing fleets, killing 40,000 sea turtles, over 300,000 sea birds and millions of sharks annually, to name a f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2" descr="longlining"/>
          <p:cNvPicPr/>
          <p:nvPr/>
        </p:nvPicPr>
        <p:blipFill>
          <a:blip r:embed="rId1"/>
          <a:stretch/>
        </p:blipFill>
        <p:spPr>
          <a:xfrm>
            <a:off x="609480" y="2590920"/>
            <a:ext cx="77724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Gill Net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48387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2819520" y="457200"/>
            <a:ext cx="3809880" cy="76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Gilln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410080" y="4572000"/>
            <a:ext cx="281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askan pink salmon are evolving into smaller fish, the ones who make it through the gill nets survive to reprodu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990720" y="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For every pound of shrimp caught, 10 - 20 lb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ycatch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“trawl trash” is killed and discard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8" descr="Trawling"/>
          <p:cNvPicPr/>
          <p:nvPr/>
        </p:nvPicPr>
        <p:blipFill>
          <a:blip r:embed="rId1"/>
          <a:stretch/>
        </p:blipFill>
        <p:spPr>
          <a:xfrm>
            <a:off x="838080" y="274320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4495680" y="2743200"/>
            <a:ext cx="4419720" cy="373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4952880" y="335268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 area of the seafloor trawled is equal to 150X the area of forests clear cut each ye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Capture fishing grew from  20 million tons in 1950 to more than 80 million tons in 1998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838080" y="380880"/>
            <a:ext cx="7543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quaculture now accounts for about 1/3 of our sea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Now due to environmental problems marine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quaculture is being revisi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7" descr="salmon_farms040108"/>
          <p:cNvPicPr/>
          <p:nvPr/>
        </p:nvPicPr>
        <p:blipFill>
          <a:blip r:embed="rId1"/>
          <a:stretch/>
        </p:blipFill>
        <p:spPr>
          <a:xfrm>
            <a:off x="1447920" y="4343400"/>
            <a:ext cx="6400800" cy="2514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218960" y="4267080"/>
            <a:ext cx="74674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1523880" y="228600"/>
            <a:ext cx="6019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Case Study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Paper and Defores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676160"/>
            <a:ext cx="6934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.S. and 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We (5% or world’s pop.) use 30% of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lobal wood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Predicted to double by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oldgrowth_logo_lg"/>
          <p:cNvPicPr/>
          <p:nvPr/>
        </p:nvPicPr>
        <p:blipFill>
          <a:blip r:embed="rId1"/>
          <a:stretch/>
        </p:blipFill>
        <p:spPr>
          <a:xfrm>
            <a:off x="6781680" y="2666880"/>
            <a:ext cx="2133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6553080" y="6338880"/>
            <a:ext cx="31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895480" y="533520"/>
            <a:ext cx="3200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world’s major fish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F14_9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0" y="5562720"/>
            <a:ext cx="3352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ed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= upwelling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igh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Yellow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= moderat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57200" y="685800"/>
            <a:ext cx="7924680" cy="52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ho’s being deple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rtually every large fish in the ocean: Including, but not limit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have declined by 90% since industrialized fishing after WW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north_sea_cod_en"/>
          <p:cNvPicPr/>
          <p:nvPr/>
        </p:nvPicPr>
        <p:blipFill>
          <a:blip r:embed="rId1"/>
          <a:stretch/>
        </p:blipFill>
        <p:spPr>
          <a:xfrm>
            <a:off x="-60480" y="46080"/>
            <a:ext cx="9204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sheries in total collap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y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uefin and Albacore T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d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lantic C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vies from Pe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mon from Pacific North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laska is O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Collapse of the Newfoundland cod fishe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38080" y="685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World  Fisheries 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533520" y="1371600"/>
            <a:ext cx="8381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992 and 19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ery major country discusses codes of conduct/harvesting…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tabl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762120" y="304920"/>
            <a:ext cx="784836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day:  80% of our fish must be import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se Study :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ocal Depletion of Rock F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9" descr="Red_Rock_Cod"/>
          <p:cNvPicPr/>
          <p:nvPr/>
        </p:nvPicPr>
        <p:blipFill>
          <a:blip r:embed="rId1"/>
          <a:stretch/>
        </p:blipFill>
        <p:spPr>
          <a:xfrm>
            <a:off x="1066680" y="3581280"/>
            <a:ext cx="716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1143000" y="914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ase Study – Atlantic C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0" descr="atlanticcodendangered.jpg"/>
          <p:cNvPicPr/>
          <p:nvPr/>
        </p:nvPicPr>
        <p:blipFill>
          <a:blip r:embed="rId1"/>
          <a:stretch/>
        </p:blipFill>
        <p:spPr>
          <a:xfrm>
            <a:off x="1143000" y="2362320"/>
            <a:ext cx="6248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xic Pollution and 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Pollut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leaching 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aia_b_guetezeichen2_0_magia"/>
          <p:cNvPicPr/>
          <p:nvPr/>
        </p:nvPicPr>
        <p:blipFill>
          <a:blip r:embed="rId1"/>
          <a:stretch/>
        </p:blipFill>
        <p:spPr>
          <a:xfrm>
            <a:off x="5257800" y="41911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Seventh Generation Toilet Paper"/>
          <p:cNvPicPr/>
          <p:nvPr/>
        </p:nvPicPr>
        <p:blipFill>
          <a:blip r:embed="rId2"/>
          <a:stretch/>
        </p:blipFill>
        <p:spPr>
          <a:xfrm>
            <a:off x="990720" y="342900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" descr="image001"/>
          <p:cNvPicPr/>
          <p:nvPr/>
        </p:nvPicPr>
        <p:blipFill>
          <a:blip r:embed="rId1"/>
          <a:stretch/>
        </p:blipFill>
        <p:spPr>
          <a:xfrm>
            <a:off x="533520" y="228600"/>
            <a:ext cx="831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Graph representing Trend in median age-at-maturity for Atlantic cod in Lofoton,&#13;&#10;Norway."/>
          <p:cNvPicPr/>
          <p:nvPr/>
        </p:nvPicPr>
        <p:blipFill>
          <a:blip r:embed="rId1"/>
          <a:stretch/>
        </p:blipFill>
        <p:spPr>
          <a:xfrm>
            <a:off x="228600" y="266760"/>
            <a:ext cx="8610480" cy="52434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7"/>
          <p:cNvSpPr/>
          <p:nvPr/>
        </p:nvSpPr>
        <p:spPr>
          <a:xfrm>
            <a:off x="1295280" y="5867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h caught are getting younger and you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les and W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whales and 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istence  vs. commerc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viest losses in 20th century wi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 whaling equ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9" descr="Norwegian Whaler &amp; Harpoon"/>
          <p:cNvPicPr/>
          <p:nvPr/>
        </p:nvPicPr>
        <p:blipFill>
          <a:blip r:embed="rId1"/>
          <a:stretch/>
        </p:blipFill>
        <p:spPr>
          <a:xfrm>
            <a:off x="5638680" y="441972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whaling; Copyright John Cunningham; skylinephoto@hotmail.com"/>
          <p:cNvPicPr/>
          <p:nvPr/>
        </p:nvPicPr>
        <p:blipFill>
          <a:blip r:embed="rId2"/>
          <a:stretch/>
        </p:blipFill>
        <p:spPr>
          <a:xfrm>
            <a:off x="1295280" y="4170240"/>
            <a:ext cx="38102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less $$ than fish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a few crucial products (whale o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ed 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6 set moratorium on commercial 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2  (very important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62120" y="380880"/>
            <a:ext cx="72388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es depleted, in order, by commercial whal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Right Wh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umpback Wh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rm Wh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ue Wh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 Wh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ke Wh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difficult to catch, not as valu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666880" y="3733560"/>
            <a:ext cx="60199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 Violates Ban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000 have been slaughtered since the ban in 198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568760" y="3860640"/>
            <a:ext cx="6480" cy="50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under guise of “scientific research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ys the “rats of the sea” are responsible for crash of fisheri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WC contemplating 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352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phins, porpois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and accidental hun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una net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peration and boycot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helped establish measur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duce bycatch morta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Endangered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l. Union of Concerned Scientists (IUCC) Red List says, at risk of extinction ar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mam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rept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amphi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Natural Causes of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fluctuations (if pop is very 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Var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Catastrop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changes (Small po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Human Causes of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per is the dominant material in solid was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landfill"/>
          <p:cNvPicPr/>
          <p:nvPr/>
        </p:nvPicPr>
        <p:blipFill>
          <a:blip r:embed="rId1"/>
          <a:stretch/>
        </p:blipFill>
        <p:spPr>
          <a:xfrm>
            <a:off x="3352680" y="137160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ternatives to wood in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Kena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rom East Ind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Man in Kenaf field"/>
          <p:cNvPicPr/>
          <p:nvPr/>
        </p:nvPicPr>
        <p:blipFill>
          <a:blip r:embed="rId1"/>
          <a:stretch/>
        </p:blipFill>
        <p:spPr>
          <a:xfrm>
            <a:off x="5486400" y="1828800"/>
            <a:ext cx="3286080" cy="4076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80880" y="1600200"/>
            <a:ext cx="4876920" cy="464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m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irst paper 105 A.D. - Ch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oldtract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057400"/>
            <a:ext cx="3095640" cy="2895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5638680" y="5257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world’s most versatile fi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57200" y="1143000"/>
            <a:ext cx="4952880" cy="541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empclothing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327400" cy="388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empclothing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04920"/>
            <a:ext cx="2595600" cy="3809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mpsho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380880"/>
            <a:ext cx="2581200" cy="373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hempoi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4267080"/>
            <a:ext cx="365760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hempbags"/>
          <p:cNvPicPr/>
          <p:nvPr/>
        </p:nvPicPr>
        <p:blipFill>
          <a:blip r:embed="rId9"/>
          <a:stretch/>
        </p:blipFill>
        <p:spPr>
          <a:xfrm>
            <a:off x="4800600" y="426708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hemp20"/>
          <p:cNvPicPr/>
          <p:nvPr/>
        </p:nvPicPr>
        <p:blipFill>
          <a:blip r:embed="rId1"/>
          <a:stretch/>
        </p:blipFill>
        <p:spPr>
          <a:xfrm>
            <a:off x="762120" y="304920"/>
            <a:ext cx="2819160" cy="3028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atériaux de construction"/>
          <p:cNvPicPr/>
          <p:nvPr/>
        </p:nvPicPr>
        <p:blipFill>
          <a:blip r:embed="rId2"/>
          <a:stretch/>
        </p:blipFill>
        <p:spPr>
          <a:xfrm>
            <a:off x="4191120" y="304920"/>
            <a:ext cx="4419360" cy="2936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838080" y="3505320"/>
            <a:ext cx="7772400" cy="297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23:03:34Z</dcterms:created>
  <dc:creator>Amy Chan</dc:creator>
  <dc:description/>
  <dc:language>en-US</dc:language>
  <cp:lastModifiedBy>tosborne</cp:lastModifiedBy>
  <dcterms:modified xsi:type="dcterms:W3CDTF">2011-12-05T15:57:58Z</dcterms:modified>
  <cp:revision>71</cp:revision>
  <dc:subject/>
  <dc:title>Chapter 13  Landscapes and Seascapes</dc:title>
</cp:coreProperties>
</file>